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D0D-4B40-43DE-BD0C-4FD21A01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679-FE36-4CAD-97DE-AF177AA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73FBE-A772-4939-91D5-CAFE1DC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633ED-18B1-4F21-B5B6-DA370F4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4568-6F74-433C-880D-2D11046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40556-58C8-4F1C-BCB4-A24F19B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E9D7-6D4F-4565-83A9-635DEA6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A3AE6-DDFE-467C-B124-1914CD5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73D1-6A73-4213-BF1F-C651DFF4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45E8-3B06-48CA-B939-31FC3885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50797-1C2A-4CCD-B063-D931BD0A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AC014-3B6D-4860-87CF-83B3633A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8DD-82A2-4C0E-B6D0-63A87BA7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85038-1DD0-49D5-984B-C18D59A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7C9E-80D6-4871-962B-08B1DA8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A12E3-4D6C-4857-B983-AE32BA8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FA118-C1F8-449D-B8E0-253A1F9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D8FC-E763-4F4E-A407-4BA07EA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3B1C6-0C6E-4C31-9D03-107BFFE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87638-2CE8-4EE3-B8B0-82F20C7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132E6-4EC8-41B9-B683-6CDE81D3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6500E-5A77-4E6D-876F-1527399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F277E-05F5-4891-8CBA-67FA8F4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868-D75A-42B2-866F-E639F48E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961F8-D5CD-4BA5-B57A-2370E5AF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33F1-3BFE-4FAC-A0F0-56F26CA9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19E3-CDF1-47A7-A542-9E316CCC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04F52-BC45-4963-B131-58519095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1F3BC-8E1F-41AF-8D9A-F490D2F4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40961-03D7-4DB8-826B-057A107C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1297-E732-4931-BEFA-E06FCD4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D158D-38B8-41D0-AAD4-9B12A4B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46F1B-9993-4847-A2C8-58A6FCB8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51621-AFD6-4840-84AB-6AB62A0E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01F9-2872-49F1-84F1-4C69D87C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45A7-404E-4574-BF48-922844D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F65F8-E381-4842-8DAF-69D0D6B6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C05B4-5512-462A-B519-29149E4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2F5CD-511D-4B18-A7CE-60F2E533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A6A95-6160-4BDB-A046-593E73F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D468-1097-43DD-A2B0-8996ECF8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0DB58-C50D-4AD8-B4CA-B43BFEF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6EF5B-AA78-4367-B931-F51868C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A1C2-489B-43A5-BF3E-0F967F01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AEC24-8AD7-4A51-86BC-0828024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83E7-C9B1-4EA5-9281-C42BF7B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95168-6C3C-4F8C-BC9A-462C217A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4CE7F-3A43-4987-B666-CBF899F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4F64D-F2D3-4183-92FB-D009BCA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B8AD3-9501-46CC-8635-D6C8914C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40D26-FE45-4C8C-8924-B259A19D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FEC6A-D131-4842-BC24-6D8F2E38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B61A1-8D5F-4A83-80B8-8AB2F41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705C-72B2-4B94-B000-C49C4AB5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83420-E8E1-40C7-919D-61438F2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DD3DB-10DD-4072-B76E-77AE216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8559-5D8E-4680-9D90-80CB70E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47112-AB23-4B0F-B3CF-195A9EE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83013-D29C-4B1E-B168-04A92EF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CD1F2-3D50-4024-A9D4-C5EFE46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ACEC1-F44D-4064-BD4A-EA1D3E5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C27D5-58BE-445F-A2AE-D313CD8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1089-27DC-4DBE-993D-FE7228E0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47E5D-97BA-49E0-A88D-61E48C60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FB47C-5148-495B-BEC5-1E2389D6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B5489-7645-4957-A9FD-E682066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42FAC-B9BA-4854-AE83-01671F8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EFC8-47E5-4E62-A27E-5BF4EA3F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3C8BA-FFDE-40FF-B271-5DD87ED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C4C2E-3977-4561-AB11-672E8C2C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89BD3-F25D-424A-8816-C2FBF421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7AE84-2AEF-44CD-8AB1-9FBF35B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D96F2-98DD-4E20-B338-28BBC44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43D9F-18C9-410B-BA8F-F4D6D9E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6FAA7-9737-428D-AE8B-F87636B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40740-647E-4B6D-95A9-5540BDB0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5D6A8-A95C-434A-AC6F-8BF66388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2D1E9-D3EF-441B-B831-2833B68B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CCE-AEA9-4229-A2F4-CBD51EA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864CE-71E0-4C4E-A56E-36BABB94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CECEF-0B8F-4C1A-8A9A-36FCADA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E7053-EDDA-4C49-B5A5-DFDA7CD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63CF6-9624-4D13-ADB2-5589E9BB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76E75-BE62-47F1-A5F8-7A74594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285FA-FA23-4D77-9029-EB9AED3E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E894E-B213-4E84-A50F-0617397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9631D-6CC5-43AE-BF8E-01BE0B4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977DF-53BE-4823-B2AF-B04F75A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2D78F-3680-440E-A190-D04BB2EA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14D-25F0-415D-8C5E-4BAD4AB2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9F224-1BEA-44C3-B5D3-A2204AC6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DB338-9531-4332-83DB-5A909F55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75760-BA1C-487F-8AE6-D51B512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9ED6C-F609-4F4E-9C4A-54ABCDA4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F100C-851A-4217-B4F5-56C7007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63710-4165-4AC6-8540-1439758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A6613-0789-49DE-8EE6-0AF61E5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A381F-A02E-4B12-8CBB-C5B2076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F18EA-AB26-4F25-B62F-B4877203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2E87D-46CD-4B1B-82E1-B9B40C5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00DD-8C20-4630-B1C4-9731DB2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8EF15-788F-4602-94F2-C0E9782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6BF7D-BD30-46E2-B654-321A9A1B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12C57-197E-4A62-9447-C09BA26C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FFC95-2663-4086-BA4C-718B6B28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B94EE-87E2-4BFF-8B72-EF451C3F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6BB3E-BEBB-4FB4-97F0-B378608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A26B6-0DCF-40F5-8EC2-11765B7C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D4FCD-E624-4F17-BE01-FC6E47C4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8E7B7-71BD-49B0-9A3C-E22A1CB8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DB15B-3854-43AD-A960-6E4C64C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08F-2619-47B6-9088-754ACFAE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4472-A394-4738-B0FE-968099E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33CDC-67D6-463C-AD5D-D3E2D52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5F799-BBDA-42B0-B17F-3EA4472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34C52-3887-4307-945C-529BDDD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D095E-DDB9-4508-A071-9DB794F0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38803-A903-48BE-BFFD-8CA8D98E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B11C6-73C4-4B7C-A8C8-02FDAC49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DA596-8A7B-4871-B4FE-F0D4C47C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3F923-C530-4C8F-A7E0-138D50BA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28CA3-6A61-4F67-A124-2395520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17373-6506-4C0B-B285-BFEBEDB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9B27-57CA-4504-82A0-E3D5995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F554F-D1F1-492D-96D2-43B604C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9F892-D8F8-4069-B967-0A577C8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22187-76E0-48D3-8A50-BE54ABE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4D8E0-9DE9-4415-B553-6EA4104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4572D-8E60-48F8-BACD-C615B9E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52D42-2D29-4087-AB04-7E95B104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907D6-A63F-408A-A829-DA6AA91F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D6D36-35F4-4D83-A139-44D57787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1CCC6-6DBC-4D89-AFCE-585198B0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78544-F68A-47F6-98FE-9F41158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8769-0415-430B-8ED7-1ED6D68C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47912-D121-403D-AE87-AB2BD910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3F8A0-A655-4B13-8CC9-1A268434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C3EFC-0B3E-4774-97A7-54B23E6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F038A-7C79-48DC-84B9-76D07E5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18B32-CB48-40E7-92E1-5670956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B7A80-ED42-45FA-8948-5B31C5D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6512B-4CE4-4733-9C90-CE6B696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674F5-8F8B-48F5-8105-CE19A6F5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2678F-C8F5-4F82-A6AB-59818776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1A9D5-59BF-492A-ADA1-9176412E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628-E7A0-4CE8-9030-A3DB89AE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92DDA-0905-4D47-AA9A-9D0FBBD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BB057-E95B-4D4D-BB62-5BE0003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7CB9E-7D1C-474B-8955-A3AAC3A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F5643-9160-4FC5-8F60-4743B68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B28D7-F067-4516-B59B-AA1AAE3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1D049-A753-4192-A770-1BD66F4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24966-F49D-4BF9-980C-3D757BB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31773-1048-4B92-8923-52902EDC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F23F7-496A-416A-88B1-0560AAFE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40991-E6B7-478A-AC5F-6C532E47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A61E-8741-4FF1-B941-CEF0C740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6B473-0028-421A-9065-5C468C6F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F255E-E9C6-4966-BE8B-809990A5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22AEA-6D64-41CE-B05D-CC206E8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0951F-4D3B-4F22-9893-D9A8A304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AAFD0-5AFB-48FA-9FCD-4C5FF4C9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3B9B7-0189-493E-8891-8D419DD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A046A-3BC8-4B94-880A-5B226DA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CADBE-88BD-414E-BD6F-3693263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67E41-3D60-49DA-BF9F-6A5C73EA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81F6E-3313-4706-8756-5124F8F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BBD6-80D0-4977-9562-98089BEC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6FBF6-9702-4E52-9674-8E1ABA3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3AB93-9427-4FF1-8B2B-C483BABC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37B62-5958-4FAB-A6FC-27B8CDA5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6A36-1A8F-40AC-8B51-86C48C3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F317-A463-4752-8935-21BAB6F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30E5-D997-4C91-B094-6A53E46E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E043-CEF3-4ADD-B8E6-B766881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EAF-41C9-4B15-8D31-DF2C401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4F7F-1037-49CD-8C46-E92AAEB7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B90E-5D21-45F7-80BA-4E11602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2C1F-18DB-4506-B90E-E9F0FD5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C2DF-41C9-43E9-8741-9AAAFFF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B6EC-CAEA-46C2-82CB-248C209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F4D8-2A5C-48BF-994E-CAB8DC3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7581-0B93-4974-82A1-061216AB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05EB-A76F-4AE5-9F0D-52FCDD3A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E560-8A1D-4D13-9E52-945EBD6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163F-7F56-43FC-9BB9-0AC88B6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A84-B871-41AE-8140-9FF192D9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7DEE-C665-40D9-97BB-FB804B1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1B06-FD5E-42D7-A9E2-A60A2550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C252-DDF3-49D5-AD7D-847962AD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2CC9-1999-40B8-8424-6A5FA25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F070-0750-4B7E-B228-8DFD07E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6A4E-D4AA-40EC-821E-8367323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D159-DF7E-4530-8FC8-086662FE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4C3C-34B2-4394-BB81-08C49E3D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7351-A06F-4767-A88A-A6B8BA1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5E47-6DD4-490F-98AC-264EBBCD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B66-DF79-4062-828D-C493594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FD97D-4A69-4B2F-82B8-3757390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CE00-3A51-4570-99B7-6B212F8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C0DA-AAE4-4134-85EB-46C73A87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8DD6-C01A-47B8-BFFF-3B50326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7FF2-D5B9-46C3-8B72-5554782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03D3-AAB2-4D3C-9914-278C7D0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536F-A3EC-4419-BA24-8CE6896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B993-F160-4A2B-AB22-A38FA5F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6377-38B4-41A6-A94F-D7389B28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DAC6-B7BD-46FB-B848-1311CC15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DBC-7DD7-4EFE-A945-5B7331C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CCA0-1E82-4610-A814-437D0101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2378-5C03-4141-8FB3-69611643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E4FB-DBC6-4255-9901-D0CD0045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6088-1FD8-402A-B5A9-CC431F0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8999-1273-4EC0-A886-130E6C54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2FFF-3952-4992-A8DE-923C4AD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6D7E-0372-43AE-AF96-F67ADC5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4582-F588-46A6-AD37-B604BD9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A0D9-BA84-4642-B92E-13D5099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9FC1-12DE-44AF-A499-A778052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287-4496-4C80-9B98-A4FA25A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CF9C-94C1-4029-865B-175C1F54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909BA-E05E-4DD1-91AB-6C9E43F8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D395A-C6DF-440C-A44B-919C0C8A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B0708-273F-4E92-BC45-62CF2963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4DF4-C429-4680-8066-62CFF6B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FE8F1-DA43-4B3E-A7C1-108D5BB4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084C-477E-445F-BF15-C80CB7BD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8DE16-92C8-405D-8742-A6B3AEB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1A14-1A73-4289-A4CE-086D961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FF3C-A595-49CB-91FB-F881B73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E93-929B-417F-9C89-BEE8E34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0960-4114-461E-BDE0-7545EA3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844F3-FA5E-4D5C-97D6-2C4C57F0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AAA5-D9DA-4A6B-B581-546D76B7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FCCA-237C-466B-93F2-3D8C9675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8533-E801-45A2-8EA0-FED612D4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F25F0-643F-49DC-930B-366B4EE3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2BBD-0FAE-43EC-8626-152634E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FA809-D54E-4690-96D9-ADADFAD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94D6-1BB6-403B-9CD9-9EF3A56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3C79-9864-4ACA-AE16-15137A69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A55-66DD-483D-8676-F37E110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CE90-31E5-4583-9A21-B150735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7F21-B98C-47BF-A630-A07EFC0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04CE-3EBB-45E9-95AB-F5C4BC9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C4551-24DC-4EC1-A484-F6E6529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0CF75-4E7D-4248-8BA5-CA8A8DCB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0152-099C-448F-9C27-29E86FDF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3A837-5002-4BB8-9B49-B101BB7B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E7284-4342-432E-AEAF-5EDE765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B36AA-B670-4085-B7BD-F9F6A04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BE57-838A-4137-8485-23BC58C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F03-7202-4C35-B9E9-8B01EA12A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1271-7F04-46F4-97AD-7EF365FE04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02C-D845-4CA5-8199-0984531BD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ACF-297D-45DF-A29A-B0314B744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9C6-BACE-4C55-BC7D-F1DBA366F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F4C3-856E-4167-91FC-B0B335073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3BD-6562-49F9-AFF4-C294D9FAF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2A1-F7C9-413E-9C94-633BA1C08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BD28-134C-4498-A4EF-4024561CF3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105-9602-4E9A-910F-090EE0D1A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C56-4A6C-495A-ADA0-3328AAB2C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422-162B-4D3A-9C51-1B2EA72F2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2F0-37B6-4372-9142-DD25ABB719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1053-49E3-46A5-88AE-275FE188F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7DD-C303-40AA-8AD8-20745864F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18C9-2F88-4200-A3AA-5665EAAD4C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71C-1F31-4FD0-8BB5-358564CFF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2FF-A295-42EA-A7E2-5DF030931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C449-364A-4374-B414-34E160BB6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4375-B62D-415D-A680-834F76308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512-62A0-4D43-9778-F6EC07D96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8F8-BCF4-4CAA-BA4C-729D3F817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7D1-5CAB-4236-A3FF-346A46C29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1B7-862B-442F-AD0D-E57161B8E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36C-5568-4B85-B2E9-B703A6C49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A696-4830-42B3-924B-4BAC231BB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243-8380-49F7-8FB6-562DFE6660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1575-434B-471B-AD5C-EDB0AAA28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262-2F0D-4ECB-89AE-74118BCBF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40F-A64C-4AA8-9833-E45B8C084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47FA-8504-4219-9A86-1814EDFB2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49BC-599F-4EB9-835C-200EC60642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706-32EC-45B5-B7D8-A6C069840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CD6-849F-4860-9432-561F4DAD0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EE9-A1D4-4174-83F1-0099D1347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211-972D-444A-85C9-6653DAB73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6B9-1961-42BF-95A8-0BFD542ED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F437-1AA2-4FB1-8480-B22961D89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884-8806-4C6C-B12B-52949D32DA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D88-89BF-4598-A15C-B8C640DC54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04960" y="3186000"/>
            <a:ext cx="3934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095480"/>
            <a:ext cx="8896320" cy="4667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2143080"/>
            <a:ext cx="1224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763640" y="2143080"/>
            <a:ext cx="1513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244944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246384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08000" y="278136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4360" y="516744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547380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859280" y="5167440"/>
            <a:ext cx="360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09440" y="2733840"/>
            <a:ext cx="8925120" cy="1390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395280" y="317016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395280" y="3798720"/>
            <a:ext cx="2521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85760" y="852480"/>
            <a:ext cx="8772480" cy="5600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45352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95280" y="315108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132000" y="314172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468360" y="344808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635280" y="614052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9" descr=""/>
          <p:cNvPicPr/>
          <p:nvPr/>
        </p:nvPicPr>
        <p:blipFill>
          <a:blip r:embed="rId7"/>
          <a:stretch/>
        </p:blipFill>
        <p:spPr>
          <a:xfrm>
            <a:off x="1282680" y="4753080"/>
            <a:ext cx="2238480" cy="1704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8542440" y="3068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8523360" y="3500280"/>
            <a:ext cx="51264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532720" y="392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8542440" y="4292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8459640" y="47340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8532720" y="51228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532720" y="5554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8532720" y="595944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2:5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